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4768-BC09-4483-8301-84D7EDDF0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n Name ist Emily Pope. Heute werde ich auf etwa zwei Umweltthemen, Tierschutz und Wüstenbildung zu sprech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ri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gibt einen Hund und einen Vogel auf dem Schild. (There is a dog and a bird on the 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ist ein Tiererhaltungszeichen. (It is an animal conservation 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r Hintergrund ist blau. (The background is bl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pr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utsche kümmern sich um bedrohte Tierarten. (German people care about endangered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utschland hat viele Naturschutzbehörden fuer Tiere. (Germany has several animal conservation agen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wichtiges Umweltthema. (Tierschutz ist ein wichtiges Umweltthe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weltweites Problem. (Animal conservation is a world-wide iss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aktuelles Thema zu achten. (Animal conservation is a current issue that needs to be taken care of n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ele Menschen erkennen nicht, wie wichtig Tierschutz ist. (Many people don’t realize the importance of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s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ist deine Meinung über Tierschutz? (What is your view on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Ich glaube, dass es ein sehr wichtiges Thema ist.</a:t>
            </a:r>
            <a:r>
              <a:rPr b="0" lang="de-DE" sz="800" spc="-1" strike="noStrike">
                <a:solidFill>
                  <a:srgbClr val="000000"/>
                </a:solidFill>
                <a:latin typeface="Arial"/>
              </a:rPr>
              <a:t> Es ist ein Thema, das nicht sehr ernst genommener. Es ist ein weltweites Problem, das angegangen werden muss. (</a:t>
            </a:r>
            <a:r>
              <a:rPr b="0" lang="en-US" sz="800" spc="-1" strike="noStrike">
                <a:solidFill>
                  <a:srgbClr val="000000"/>
                </a:solidFill>
                <a:latin typeface="Arial"/>
              </a:rPr>
              <a:t>I feel that it is a very important topic.</a:t>
            </a:r>
            <a:r>
              <a:rPr b="0" lang="en" sz="800" spc="-1" strike="noStrike">
                <a:solidFill>
                  <a:srgbClr val="000000"/>
                </a:solidFill>
                <a:latin typeface="Arial"/>
              </a:rPr>
              <a:t> It is a topic that is not taken very seriously. It is a global problem that needs to be add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um ist das ein wichtiges Thema? (Why do you feel it is an important top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Ich liebe Tiere, so ist es ein sehr persönliches wichiges Thema.</a:t>
            </a:r>
            <a:r>
              <a:rPr b="0" lang="de-DE" sz="800" spc="-1" strike="noStrike">
                <a:solidFill>
                  <a:srgbClr val="000000"/>
                </a:solidFill>
                <a:latin typeface="Arial"/>
              </a:rPr>
              <a:t> Ich mag es nicht die Tatsache, dass Menschen immer noch Jagd auf die bedrohten Tiere. Die Menschen müssen mehr tun, so können die Tiere wieder zu bevölkern.</a:t>
            </a:r>
            <a:r>
              <a:rPr b="0" lang="en-US" sz="800" spc="-1" strike="noStrike">
                <a:solidFill>
                  <a:srgbClr val="000000"/>
                </a:solidFill>
                <a:latin typeface="Arial"/>
              </a:rPr>
              <a:t> (I love animals so it is a very personally important topic.</a:t>
            </a:r>
            <a:r>
              <a:rPr b="0" lang="en" sz="800" spc="-1" strike="noStrike">
                <a:solidFill>
                  <a:srgbClr val="000000"/>
                </a:solidFill>
                <a:latin typeface="Arial"/>
              </a:rPr>
              <a:t> I do not like the fact that people still hunt the endangered animals. People need to do more, so the animals to repopul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denken Sie, koennte die deutsche Regierung tun, um Tierschutz zu erhöhern? (What do you think the German government should do to increase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a:t>
            </a:r>
            <a:r>
              <a:rPr b="0" lang="de-DE" sz="800" spc="-1" strike="noStrike">
                <a:solidFill>
                  <a:srgbClr val="000000"/>
                </a:solidFill>
                <a:latin typeface="Arial"/>
              </a:rPr>
              <a:t>Die Regierung sollte Geldbußen gegen Wilderei setzen. Teure Bußgelder sollten an Ort und Stelle gegen Wilderei bedrohte Tier gestellt werden. Auch sollte die Regierung bestimmte gefährdete Tiere in Tierheimen setzen.</a:t>
            </a:r>
            <a:r>
              <a:rPr b="0" lang="en-US" sz="800" spc="-1" strike="noStrike">
                <a:solidFill>
                  <a:srgbClr val="000000"/>
                </a:solidFill>
                <a:latin typeface="Arial"/>
              </a:rPr>
              <a:t> (The government should put fines on poaching.</a:t>
            </a:r>
            <a:r>
              <a:rPr b="0" lang="en" sz="800" spc="-1" strike="noStrike">
                <a:solidFill>
                  <a:srgbClr val="000000"/>
                </a:solidFill>
                <a:latin typeface="Arial"/>
              </a:rPr>
              <a:t> Costly fines should be set in place against poaching endangered animals. Also, the government should put some endangered animals in shelters.)</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selmaus hat eine schrumpfende Bevölkerung in Deutschla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selmaus und der W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AA933-754C-44D3-9B42-D727A0F87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77D79-B439-444C-A0F7-96EC44B7B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43F58-81C7-4C01-8783-570CEF889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C687-55A2-48C6-9D03-A2A5E5354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F884D2-CE7F-4888-97A7-2DAF2ECEB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FFE001-E625-4F28-9FDA-E77CDC715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890332-CDCA-406A-8BEE-6E71EB3C5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CE7F89-7E65-4CE4-A9C5-E495C6565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4D0134-5D3C-42D6-822A-D55C19D14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1CB062-FE70-4973-89CB-A3FF357CB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9EE9E7-CFB1-4FE5-BD4E-A4FA79588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3A1F-C1E0-4D6D-A4D3-745A7A1C2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98A904-603D-4DDD-AD2D-CEDB0921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1A1285-DB88-4C31-8828-12B85D6AA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800F4D-A657-49AF-A444-510426F2D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C6A91F-86B3-416D-B09D-05E48E65B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2EA8AA-1E12-47F9-B0A7-3948C19B4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7C2D-A421-4320-9786-17CE2A0F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989E-95A0-4F2B-AA89-64513B88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C0637-B409-45DD-B13A-6DA6EBB4B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5B21B-E60E-48AA-9C31-15DDBF496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F7A0-752B-47A2-B4E6-51858D04D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2CB7-54A8-4495-8FE6-4F95E14E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D0AC-08E7-4488-8D35-F4759EEEB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64DA-5D94-4BF4-ACF2-9AB26745A5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B17F-C1C7-481C-8E06-742CD49C24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kson.sgh.waw.pl/~trusek/gee/papers/paper-Bielig.pdf" TargetMode="External"/><Relationship Id="rId2" Type="http://schemas.openxmlformats.org/officeDocument/2006/relationships/hyperlink" Target="http://www.iucnredlist.org/apps/redlist/details/13992/0"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vironment</a:t>
            </a:r>
            <a:endParaRPr b="0" lang="en-US" sz="5400" spc="-1" strike="noStrike">
              <a:solidFill>
                <a:srgbClr val="e3e3ff"/>
              </a:solidFill>
              <a:latin typeface="Arial"/>
            </a:endParaRPr>
          </a:p>
        </p:txBody>
      </p:sp>
      <p:sp>
        <p:nvSpPr>
          <p:cNvPr id="13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ization of Species Conservation And Desertification Preventio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Emily Pope</a:t>
            </a:r>
            <a:endParaRPr b="0" lang="en-US" sz="1800" spc="-1" strike="noStrike">
              <a:solidFill>
                <a:srgbClr val="ffffff"/>
              </a:solidFill>
              <a:latin typeface="Arial"/>
            </a:endParaRPr>
          </a:p>
        </p:txBody>
      </p:sp>
      <p:pic>
        <p:nvPicPr>
          <p:cNvPr id="132" name="" descr=""/>
          <p:cNvPicPr/>
          <p:nvPr/>
        </p:nvPicPr>
        <p:blipFill>
          <a:blip r:embed="rId2"/>
          <a:stretch/>
        </p:blipFill>
        <p:spPr>
          <a:xfrm>
            <a:off x="152280" y="0"/>
            <a:ext cx="2514600" cy="1881360"/>
          </a:xfrm>
          <a:prstGeom prst="rect">
            <a:avLst/>
          </a:prstGeom>
          <a:ln w="0">
            <a:noFill/>
          </a:ln>
        </p:spPr>
      </p:pic>
      <p:pic>
        <p:nvPicPr>
          <p:cNvPr id="133" name="" descr=""/>
          <p:cNvPicPr/>
          <p:nvPr/>
        </p:nvPicPr>
        <p:blipFill>
          <a:blip r:embed="rId3"/>
          <a:stretch/>
        </p:blipFill>
        <p:spPr>
          <a:xfrm>
            <a:off x="6248520" y="4419720"/>
            <a:ext cx="2743200" cy="2257200"/>
          </a:xfrm>
          <a:prstGeom prst="rect">
            <a:avLst/>
          </a:prstGeom>
          <a:ln w="0">
            <a:noFill/>
          </a:ln>
        </p:spPr>
      </p:pic>
      <p:pic>
        <p:nvPicPr>
          <p:cNvPr id="134" name="" descr=""/>
          <p:cNvPicPr/>
          <p:nvPr/>
        </p:nvPicPr>
        <p:blipFill>
          <a:blip r:embed="rId4"/>
          <a:stretch/>
        </p:blipFill>
        <p:spPr>
          <a:xfrm>
            <a:off x="0" y="4678200"/>
            <a:ext cx="3276720" cy="2179800"/>
          </a:xfrm>
          <a:prstGeom prst="rect">
            <a:avLst/>
          </a:prstGeom>
          <a:ln w="0">
            <a:noFill/>
          </a:ln>
        </p:spPr>
      </p:pic>
      <p:pic>
        <p:nvPicPr>
          <p:cNvPr id="135" name="" descr=""/>
          <p:cNvPicPr/>
          <p:nvPr/>
        </p:nvPicPr>
        <p:blipFill>
          <a:blip r:embed="rId5"/>
          <a:stretch/>
        </p:blipFill>
        <p:spPr>
          <a:xfrm>
            <a:off x="6515280" y="0"/>
            <a:ext cx="2628720" cy="1754280"/>
          </a:xfrm>
          <a:prstGeom prst="rect">
            <a:avLst/>
          </a:prstGeom>
          <a:ln w="0">
            <a:noFill/>
          </a:ln>
        </p:spPr>
      </p:pic>
    </p:spTree>
  </p:cSld>
  <p:transition advTm="3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bsites Used:</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imeanddate.com/holidays/un/world-day-to-combat-desertific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akson.sgh.waw.pl/~trusek/gee/papers/paper-Bielig.pdf</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iucnredlist.org/apps/redlist/details/13992/0</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uropeanraptors.org/raptors/white_tailed_eagl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utscher Tierschutz</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2590920" y="1676520"/>
            <a:ext cx="3743280" cy="4314600"/>
          </a:xfrm>
          <a:prstGeom prst="rect">
            <a:avLst/>
          </a:prstGeom>
          <a:ln w="0">
            <a:noFill/>
          </a:ln>
        </p:spPr>
      </p:pic>
    </p:spTree>
  </p:cSld>
  <p:transition advTm="180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dangered Specie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azel Dormouse has a declining population in German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the white-tailed sea eagle had 470 pairs (a spectacular increase from only about 110 pairs in Germany in the 1960s) for the year 2004. In 2008, the population was already around 600 pair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by far the highest number of white-tailed sea eagles die because of lead poisoning, followed by collisions with trains, trauma (violent impact which could not be further determined), suspected illegal poisoning, electrocution, collision with wind mills, collision with power lines, confirmed poisoning, collision with cars, shot birds and mercury poisoning.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with trains is quite common in Germany. This happens when animals like Roe Deer get killed by trains and are not removed from the rails. The eagles find the carrion and feed on 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advTm="30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ndangered German Hazel Dormouse and </a:t>
            </a:r>
            <a:r>
              <a:rPr b="0" lang="en-US" sz="3200" spc="-1" strike="noStrike">
                <a:solidFill>
                  <a:srgbClr val="e3e3ff"/>
                </a:solidFill>
                <a:latin typeface="Arial"/>
              </a:rPr>
              <a:t>White-Tailed Sea Eag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457200" y="1600200"/>
            <a:ext cx="4191120" cy="4495680"/>
          </a:xfrm>
          <a:prstGeom prst="rect">
            <a:avLst/>
          </a:prstGeom>
          <a:ln w="0">
            <a:noFill/>
          </a:ln>
        </p:spPr>
      </p:pic>
      <p:pic>
        <p:nvPicPr>
          <p:cNvPr id="141" name="" descr=""/>
          <p:cNvPicPr/>
          <p:nvPr/>
        </p:nvPicPr>
        <p:blipFill>
          <a:blip r:embed="rId2"/>
          <a:stretch/>
        </p:blipFill>
        <p:spPr>
          <a:xfrm>
            <a:off x="4648320" y="1600200"/>
            <a:ext cx="4114800" cy="4495680"/>
          </a:xfrm>
          <a:prstGeom prst="rect">
            <a:avLst/>
          </a:prstGeom>
          <a:ln w="0">
            <a:noFill/>
          </a:ln>
        </p:spPr>
      </p:pic>
    </p:spTree>
  </p:cSld>
  <p:transition advTm="30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Day to Combat Desertification and Drought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ted Nations' World Day to Combat Desertification and Drought is annually observed on June 17 to highlight the urgent need to curb the desertification process.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aims to strengthen the visibility of the drylands issue on the international environmental agenda.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ld Day to Combat Desertification and Drought is a global observance and not a public holiday.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ecember 1994, the United Nations General Assembly declared June 17 the World Day to Combat Desertification and Drought.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sembly acknowledged that desertification and drought were global problems because they affected all regions of the world. </a:t>
            </a:r>
            <a:endParaRPr b="0" lang="en-US" sz="2000" spc="-1" strike="noStrike">
              <a:solidFill>
                <a:srgbClr val="ffffff"/>
              </a:solidFill>
              <a:latin typeface="Arial"/>
            </a:endParaRPr>
          </a:p>
        </p:txBody>
      </p:sp>
    </p:spTree>
  </p:cSld>
  <p:transition advTm="3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World Day to Combat Desertification Ad</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457200" y="1523880"/>
            <a:ext cx="8229600" cy="4876920"/>
          </a:xfrm>
          <a:prstGeom prst="rect">
            <a:avLst/>
          </a:prstGeom>
          <a:ln w="0">
            <a:noFill/>
          </a:ln>
        </p:spPr>
      </p:pic>
    </p:spTree>
  </p:cSld>
  <p:transition advTm="3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7924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ew German Policy in Light of Globalization</a:t>
            </a:r>
            <a:endParaRPr b="0" lang="en-US" sz="3200" spc="-1" strike="noStrike">
              <a:solidFill>
                <a:srgbClr val="e3e3ff"/>
              </a:solidFill>
              <a:latin typeface="Arial"/>
            </a:endParaRPr>
          </a:p>
        </p:txBody>
      </p:sp>
      <p:sp>
        <p:nvSpPr>
          <p:cNvPr id="148" name="PlaceHolder 2"/>
          <p:cNvSpPr>
            <a:spLocks noGrp="1"/>
          </p:cNvSpPr>
          <p:nvPr>
            <p:ph/>
          </p:nvPr>
        </p:nvSpPr>
        <p:spPr>
          <a:xfrm>
            <a:off x="304560" y="914400"/>
            <a:ext cx="7924680" cy="59436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 the recent years Germany has raised its profile as a key player in the international environmental policy.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clared aim of German environmental policy is the enabling of a significant headway in environmental protection in Brussel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focused two lanes strategy consists of encouraging of sustainable production in the EU and worldwi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le using the EU Council Presidency in 2007 for lending an impetus at the international level Germany announced the policy priorities in climate protection and sustainable energy polic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ast five decades mankind was transforming its natural surrounding more dramatically than in the whole preceding histor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advTm="3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ational Park in Brandenburg, Germany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1523880"/>
            <a:ext cx="9144000" cy="5334120"/>
          </a:xfrm>
          <a:prstGeom prst="rect">
            <a:avLst/>
          </a:prstGeom>
          <a:ln w="0">
            <a:noFill/>
          </a:ln>
        </p:spPr>
      </p:pic>
    </p:spTree>
  </p:cSld>
  <p:transition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ragen</a:t>
            </a:r>
            <a:endParaRPr b="0" lang="en-US" sz="4400" spc="-1" strike="noStrike">
              <a:solidFill>
                <a:srgbClr val="e3e3ff"/>
              </a:solidFill>
              <a:latin typeface="Arial"/>
            </a:endParaRPr>
          </a:p>
        </p:txBody>
      </p:sp>
      <p:sp>
        <p:nvSpPr>
          <p:cNvPr id="15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hich of the following has a declining popul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zel Dormous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Where’s Wal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The Purple Cow</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en does World Day to Combat Desertification and Drought</a:t>
            </a:r>
            <a:r>
              <a:rPr b="0" lang="en-US" sz="3200" spc="-1" strike="noStrike">
                <a:solidFill>
                  <a:srgbClr val="ffffff"/>
                </a:solidFill>
                <a:latin typeface="Arial"/>
              </a:rPr>
              <a:t> </a:t>
            </a:r>
            <a:r>
              <a:rPr b="0" lang="en-US" sz="2000" spc="-1" strike="noStrike">
                <a:solidFill>
                  <a:srgbClr val="ffffff"/>
                </a:solidFill>
                <a:latin typeface="Arial"/>
              </a:rPr>
              <a:t>take plac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June 1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July 1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Sometime</a:t>
            </a:r>
            <a:endParaRPr b="0" lang="en-US" sz="2000" spc="-1" strike="noStrike">
              <a:solidFill>
                <a:srgbClr val="ffffff"/>
              </a:solidFill>
              <a:latin typeface="Arial"/>
            </a:endParaRPr>
          </a:p>
        </p:txBody>
      </p:sp>
    </p:spTree>
  </p:cSld>
  <p:transition advTm="3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a:t>
            </a:r>
            <a:endParaRPr b="0" lang="en-US" sz="3200" spc="-1" strike="noStrike">
              <a:solidFill>
                <a:srgbClr val="ffffff"/>
              </a:solidFill>
              <a:latin typeface="Arial"/>
            </a:endParaRPr>
          </a:p>
        </p:txBody>
      </p:sp>
    </p:spTree>
  </p:cSld>
  <p:transition advTm="3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18:31:51Z</dcterms:created>
  <dc:creator>SCSadmin</dc:creator>
  <dc:description/>
  <dc:language>en-US</dc:language>
  <cp:lastModifiedBy>SCSadmin</cp:lastModifiedBy>
  <dcterms:modified xsi:type="dcterms:W3CDTF">2012-03-26T17:43:06Z</dcterms:modified>
  <cp:revision>13</cp:revision>
  <dc:subject/>
  <dc:title>Environment</dc:title>
</cp:coreProperties>
</file>